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30F53-289C-44F3-9C17-8E2332C5E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99658-50BC-47BA-BCFF-08FBD4F25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4A33A-CB0F-4AE7-BFD6-BD75BB3CD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58C67-A108-487D-945A-CDC8530BC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83EFB-30BD-401A-8C72-2686D7482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2371D-4EC7-474B-81CB-552C25E8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7D048-984E-43A4-83BE-731FD42DE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553E2-9D50-4836-9185-9A314FFEB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813C4-DA1E-43E4-9B6D-C511EEF70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ABFD7-B20B-403B-BB46-A7B63A379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9E691-33CA-4C2C-9D52-76FF43D5A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BC4B8-B6D0-40A0-87BF-DB8F4845C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0AC3-1768-4745-9F5F-DC1CAADCCE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Pop Fizzers!!</a:t>
            </a:r>
            <a:endParaRPr b="0" lang="en-US" sz="6000" spc="-1" strike="noStrike">
              <a:solidFill>
                <a:srgbClr val="000000"/>
              </a:solidFill>
              <a:latin typeface="Arial"/>
            </a:endParaRPr>
          </a:p>
        </p:txBody>
      </p:sp>
      <p:sp>
        <p:nvSpPr>
          <p:cNvPr id="42" name="PlaceHolder 2"/>
          <p:cNvSpPr>
            <a:spLocks noGrp="1"/>
          </p:cNvSpPr>
          <p:nvPr>
            <p:ph type="subTitle"/>
          </p:nvPr>
        </p:nvSpPr>
        <p:spPr>
          <a:xfrm>
            <a:off x="2743200" y="6095520"/>
            <a:ext cx="6400800" cy="7621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y: Kylee Corneli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sible Causes of Error</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 error maybe was that I shook some of the pops differ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ime Spent</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took me about 45 minutes to shake the pops and measure and to clean up. It didn’t take as long as I thought it woul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bliography</a:t>
            </a:r>
            <a:endParaRPr b="0" lang="en-US" sz="4400" spc="-1" strike="noStrike">
              <a:solidFill>
                <a:srgbClr val="000000"/>
              </a:solidFill>
              <a:latin typeface="Arial"/>
            </a:endParaRPr>
          </a:p>
        </p:txBody>
      </p:sp>
      <p:sp>
        <p:nvSpPr>
          <p:cNvPr id="64" name="PlaceHolder 2"/>
          <p:cNvSpPr>
            <a:spLocks noGrp="1"/>
          </p:cNvSpPr>
          <p:nvPr>
            <p:ph/>
          </p:nvPr>
        </p:nvSpPr>
        <p:spPr>
          <a:xfrm>
            <a:off x="457200" y="1294920"/>
            <a:ext cx="8229600" cy="54104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Caffeine Content of Drinks - How Much Caffeine in Coffee, Soft Drinks, Tea - Amount of Caffeine." </a:t>
            </a:r>
            <a:r>
              <a:rPr b="0" i="1" lang="en" sz="2400" spc="-1" strike="noStrike">
                <a:solidFill>
                  <a:srgbClr val="ffffff"/>
                </a:solidFill>
                <a:latin typeface="Arial"/>
              </a:rPr>
              <a:t>Wilstar - Discover the History of Holidays, Good Eating Habits, Games, Puzzles, and Music</a:t>
            </a:r>
            <a:r>
              <a:rPr b="0" lang="en" sz="2400" spc="-1" strike="noStrike">
                <a:solidFill>
                  <a:srgbClr val="ffffff"/>
                </a:solidFill>
                <a:latin typeface="Arial"/>
              </a:rPr>
              <a:t>. Web. 25 Jan. 2011. &lt;http://wilstar.com/caffeine.htm&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Caffeine." </a:t>
            </a:r>
            <a:r>
              <a:rPr b="0" i="1" lang="en" sz="2400" spc="-1" strike="noStrike">
                <a:solidFill>
                  <a:srgbClr val="ffffff"/>
                </a:solidFill>
                <a:latin typeface="Arial"/>
              </a:rPr>
              <a:t>Wikipedia, the Free Encyclopedia</a:t>
            </a:r>
            <a:r>
              <a:rPr b="0" lang="en" sz="2400" spc="-1" strike="noStrike">
                <a:solidFill>
                  <a:srgbClr val="ffffff"/>
                </a:solidFill>
                <a:latin typeface="Arial"/>
              </a:rPr>
              <a:t>. Web. 25 Jan. 2011. &lt;http://en.wikipedia.org/wiki/Caffeine&gt;.</a:t>
            </a:r>
            <a:r>
              <a:rPr b="0" lang="en" sz="3200" spc="-1" strike="noStrike">
                <a:solidFill>
                  <a:srgbClr val="000000"/>
                </a:solidFill>
                <a:latin typeface="Arial"/>
              </a:rPr>
              <a:t> </a:t>
            </a:r>
            <a:endParaRPr b="0" lang="en-US" sz="3200" spc="-1" strike="noStrike">
              <a:solidFill>
                <a:srgbClr val="000000"/>
              </a:solidFill>
              <a:latin typeface="Arial"/>
            </a:endParaRPr>
          </a:p>
        </p:txBody>
      </p:sp>
      <p:sp>
        <p:nvSpPr>
          <p:cNvPr id="65" name=""/>
          <p:cNvSpPr/>
          <p:nvPr/>
        </p:nvSpPr>
        <p:spPr>
          <a:xfrm>
            <a:off x="237960" y="4952880"/>
            <a:ext cx="8906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ffeine Withdrawl." </a:t>
            </a:r>
            <a:r>
              <a:rPr b="0" i="1" lang="en-US" sz="2800" spc="-1" strike="noStrike">
                <a:solidFill>
                  <a:srgbClr val="ffffff"/>
                </a:solidFill>
                <a:latin typeface="Arial"/>
              </a:rPr>
              <a:t>Desperition</a:t>
            </a:r>
            <a:r>
              <a:rPr b="0" lang="en-US" sz="2800" spc="-1" strike="noStrike">
                <a:solidFill>
                  <a:srgbClr val="ffffff"/>
                </a:solidFill>
                <a:latin typeface="Arial"/>
              </a:rPr>
              <a:t>. N.p., n.d. Web. 16 Dec. 2010. &lt;www.medicinenet.com/caffeine/article.htm&gt;.</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knowledgemen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would like to thank my mom for taking pictures and timing. My dad, for buying the supplies and for letting me use his garage. Also Mrs. Riffel for the science fair work days. </a:t>
            </a:r>
            <a:r>
              <a:rPr b="0" lang="en-US" sz="4000" spc="-1" strike="noStrike">
                <a:solidFill>
                  <a:srgbClr val="ffffff"/>
                </a:solidFill>
                <a:latin typeface="Wingdings"/>
                <a:ea typeface="Wingdings"/>
              </a:rPr>
              <a:t></a:t>
            </a:r>
            <a:r>
              <a:rPr b="0"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Problem</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ve you ever wondered is caffeine effects how much pop fizz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Hypothesis</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 think that caffeine will effect how much pop fizzes because caffeine makes you hyper and I bet it will make the pop hyp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Materials</a:t>
            </a:r>
            <a:endParaRPr b="0" lang="en-US" sz="4800" spc="-1" strike="noStrike">
              <a:solidFill>
                <a:srgbClr val="000000"/>
              </a:solidFill>
              <a:latin typeface="Arial"/>
            </a:endParaRPr>
          </a:p>
        </p:txBody>
      </p:sp>
      <p:sp>
        <p:nvSpPr>
          <p:cNvPr id="48"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up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 watch</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t.Dew</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psi</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Pepper</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k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it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wberry Crush</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nge Crush</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pe Cru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Procedure</a:t>
            </a:r>
            <a:endParaRPr b="0" lang="en-US" sz="5400" spc="-1" strike="noStrike">
              <a:solidFill>
                <a:srgbClr val="000000"/>
              </a:solidFill>
              <a:latin typeface="Arial"/>
            </a:endParaRPr>
          </a:p>
        </p:txBody>
      </p:sp>
      <p:sp>
        <p:nvSpPr>
          <p:cNvPr id="50"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Gather Materi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Clear off large surf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Shake the first pop for 30 secon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Let pop fizz in a plastic bow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Measure the pop that fizzed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Record dat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Do the same with the other po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Observa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saw that the lighter the pop the more the pop fizzed. The darker the less it fizzed.</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Results</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4400" spc="-1" strike="noStrike">
                <a:solidFill>
                  <a:srgbClr val="ffffff"/>
                </a:solidFill>
                <a:latin typeface="Arial"/>
              </a:rPr>
              <a:t>Caffeine does effect how much it fizzes. Caffeine makes it fizz mo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onclusion</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affeine did make the pop fizz more, but not by much. My hypothesis was right caffeine does effect how much pop fizz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sible Applica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may apply to life so you know not to shake the caffeine because it will fizz all ov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21:01:29Z</dcterms:created>
  <dc:creator>USD376</dc:creator>
  <dc:description/>
  <dc:language>en-US</dc:language>
  <cp:lastModifiedBy>USD376</cp:lastModifiedBy>
  <dcterms:modified xsi:type="dcterms:W3CDTF">2011-03-01T15:36:10Z</dcterms:modified>
  <cp:revision>6</cp:revision>
  <dc:subject/>
  <dc:title>Pop Fizzers!!</dc:title>
</cp:coreProperties>
</file>